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2A2-82DF-4950-9FE5-8B35EAB2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2DF-E058-4CD1-BC04-0CB5B151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842-8F69-4E6A-8474-8B18039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7E6-9CD6-4415-83C3-3CD739B5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069D-E4FF-485B-B9CC-F9CBA5BF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BC0-4FDA-468D-ADB4-A442F224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0ED8-6E9C-42B7-BCFF-47F6588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814C-EABE-4F67-86C6-C67BECC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7B1C-E480-46FB-B3F5-8A34DE03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9285-D10F-4225-95B0-9A698CFA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E572-EC0A-44BE-85D7-D53AC33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191-B037-43DD-BF7A-9B242299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D55-4C35-4036-959C-2D42BD9B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8760-A8B1-4BC8-9D46-BFBC4C2B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74F7-962A-45B8-BCD3-44C5B3BB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2493-D71A-4104-B87A-181FD747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9821-ABEC-414A-AF9E-AA888488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DDE-10F3-400F-86E5-DF7A0495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A3E-7BE2-4E42-A068-4B592A9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040-5297-4CF2-8225-03D55D7C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EBC-D424-41B8-9C59-3FF3E670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27D-55C1-4E6C-B696-31BCFE3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09B-CBFE-436E-BC51-5DC6C9C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545A-C14F-4A1E-96C2-3189B72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69B-FDB9-4F61-B3A7-52B248ECED97}" type="datetime"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6B6-C194-4B3B-B496-E2C3D207EEFE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B314-84FD-40BD-83BE-5654214ABC58}" type="datetime"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154D-363E-461B-A496-79E0410C9854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¿QUÉ ES LA OFICINA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0000" y="1905120"/>
            <a:ext cx="2917800" cy="4190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rvicio público de emple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que pretend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yud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las personas en su proceso de inserción laboral, mediante diferentes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ASAS DE OFIC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63520" y="1905120"/>
            <a:ext cx="3471840" cy="41907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enen una duración 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añ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 constan 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etap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meses, el alumnado recibe formación profesional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órico-práct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Durante este periodo el alumnado recibe un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yud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conóm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 concepto de beca de formación, por importe de 6,01 euros por día lectivo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meses, los/as alumnos/as-trabajadores/as suscriben u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o de trabaj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ara la formación recibiendo un  salario (que nunca puede ser inferior al 75% del salario mínimo interprofesional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OFICINAS EN MÓSTO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óstoles I</a:t>
            </a: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 - C/ Pintor Velázquez, 57-61 - 28935 Móstoles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Tlf. 91 614 59 61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Códigos postales asociados: 28932, 28933, 28934, 28935, 28600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Móstoles II</a:t>
            </a: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 - Pza. Ernesto Peces, s/n - 28931 Móstoles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Tlf. 91 664 15 95 / 91 664 17 27 </a:t>
            </a:r>
            <a:br>
              <a:rPr sz="2000"/>
            </a:br>
            <a:r>
              <a:rPr b="0" lang="es-ES" sz="2000" spc="-1" strike="noStrike">
                <a:solidFill>
                  <a:srgbClr val="333333"/>
                </a:solidFill>
                <a:latin typeface="Arial"/>
                <a:ea typeface="Arial"/>
              </a:rPr>
              <a:t>Códigos postales asociados: 28607, 28609, 28610, 28620, 28630, 28931, 28936, 28937, 28938, 28939, 2897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RACIAS POR VUESTRA ATENC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150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976920" cy="27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¿Quién puede apuntarse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d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Mayores de 16 añ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unitarios/as y no comunitarios/as con permiso de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cumentació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ecesaria para inscribirse: D.N.I /N.I.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37200" y="1905120"/>
            <a:ext cx="199548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¿QUÉ OFRECE LA OFICINA DE EMPLEO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714680" y="1905120"/>
            <a:ext cx="2371680" cy="41907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os Profes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entación Labo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lsa de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ción: 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uelas Ta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as de Of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468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TARJETA DE DEMAND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l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solicitud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que hace un trabajador/a, desempleado/a o no, con la finalidad de mejorar sus posibilidades de inserción: empleo,  formación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novar periódicamente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en las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echas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resentarse en la Oficina cuando sea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citado/a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ara ell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municar su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locación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y el resultado de la entrevista con la empresa a la que ha sido enviado/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municar las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ificaciones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de sus características profesion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248440" y="1905120"/>
            <a:ext cx="356868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1280" y="870120"/>
            <a:ext cx="7718400" cy="56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DATOS PROFESIONA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ocer la situación de la persona y sus necesidades y aspiraciones profesionales para establecer u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inerario de inser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os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dirección, teléfono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ornada de trabajo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ari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responsabilidades familiares, movilidad geográf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tulac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cadémica-profesion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iom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nformática,  hobb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eriencia profesional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esió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 Profesiones en las que solicita trabaj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tuación labor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Desempleado/a. Mejora de emple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rsos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mación ocupacio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iones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rientación profesio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esoramiento e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utoemple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as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cuelas taller, casas de of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búsqueda directa de un puesto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MACIÓN OCUPACION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97160" y="1905120"/>
            <a:ext cx="3006720" cy="4190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iden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 la Comunidad de Madrid - Estar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scrit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/a como demandante de empleo en las oficinas de empleo. - Poseer la experiencia y/o titulación especificada para cada curs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isten diferente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milias formativa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formática, oficinas, manteni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uració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variable 100-100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rtificado profesional-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ítu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ESCUELAS TALLER/CASAS DE OFICI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gramas d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leo y form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jóvene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sempleados/as, inscritos/as como demandantes de empleo, d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o más años y menores d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r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scrito/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como demandante de empleo disponible para el trabajo en la Oficina de Empleo que le corresponda por su domicilio, y manifestar la voluntad de participar en este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SCUELAS TALL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12960" y="2473200"/>
            <a:ext cx="3976560" cy="3054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46840" y="1904760"/>
            <a:ext cx="3976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ienen una duración entr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año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 constan 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etap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meses el alumnado recibe formación profesional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órico-práct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Durante este periodo el alumnado recibe un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yuda económi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en concepto de beca de formación, por importe de 6,01 euros por día lectivo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ª.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6 ó 18 meses, los/as alumnos/as-trabajadores/as suscriben u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o de trabajo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ara la formación recibiendo un salario (que nunca puede ser inferior al 75% del salario mínimo interprofesional)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L Alejandr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7:07:20Z</dcterms:created>
  <dc:creator>I.C.M.</dc:creator>
  <dc:description/>
  <dc:language>en-US</dc:language>
  <cp:lastModifiedBy>PROFESOR</cp:lastModifiedBy>
  <cp:lastPrinted>2004-03-29T06:46:33Z</cp:lastPrinted>
  <dcterms:modified xsi:type="dcterms:W3CDTF">2007-04-10T09:07:47Z</dcterms:modified>
  <cp:revision>10</cp:revision>
  <dc:subject/>
  <dc:title>OFICINA DE EMPLEO  MAJADAHONDA</dc:title>
</cp:coreProperties>
</file>